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0FCC1AF-675E-4524-9BC2-D7C80127B6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1AA309-8C98-4E1D-8398-670882DA3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677F8B-E5E6-406D-9579-2850457FD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1D6-1775-474F-988A-91976681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309-6E3D-47D0-A7D8-011FC7A9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77B-9843-4124-8E8A-F5860708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4EC-3358-4FB9-9737-86944086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D94-556E-41FA-80F4-4588A19B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9A8-A39D-4CE0-B848-5B5FC27B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7F8-535F-4424-A3A7-2A6534A7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C5A-A830-403A-9A19-26197905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0C7-F497-43EF-BDCC-108E0D55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D94-6963-450C-A52B-4B1ACE8D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A42-B944-479D-83C7-9EF5554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B27-D09B-4684-8B78-77CD4C5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A142D8-0F8C-4BD9-BAFE-EDFE6B3ACA36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B87B8F-790C-4E12-8A05-329C00D600F5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685800"/>
            <a:ext cx="3124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log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 any catalog that has items your children will find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tend that you have $50.00 to spend together on gifts for  your fami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ing items from the cata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lect the gifts so that the total will be as close as possible to $50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raw a picture of something you did over winter break. Include a caption for your picture describing what is happen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itials________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travel log of your winter break travels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rite a paragraph about your winter tradition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friendly letter to your favorite author asking a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bout a particular part of the book that you are reading or have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352680" y="685800"/>
            <a:ext cx="256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ke a recycled man from recycled materials or draw the different 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 the moon over 7 d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0" y="5029200"/>
            <a:ext cx="320040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Grocery St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Have your child accompany you to the grocery store, carrying a calculat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As each item is selected and put into your basket, have him or 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round the price to the nearest dollar, and enter the dollar amount into the calculat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When you are ready to go to the checkout counter, ask your child for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expected total, then see how close that is to the actual amount you pa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200400" y="2666880"/>
            <a:ext cx="335268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3 of your favorite characters from books you have read. Draw and color a picture of each one on plain paper. Cut out the characters you have drawn. Choose 1 of these favorite characters to write about on the center of a paper plate. Tell about his/her personality (Is he/she brave, strong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ny, hard to get along with, friendly, a hard-worker, a good problem- solver?). How can you tell? What does he/she do in the story that shows his/ her personality? Decorate or color your plate. Finally, tape a piece of yarn to the back of the paper plate, then tape the yarn to each of your cut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s and hang or displ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6781680" y="5029200"/>
            <a:ext cx="256068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t &amp; graph brushing and flossing your teeth for 7 d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Winter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). All work should be completed in the student’s homework journal. The journal, with completed work,  and the board, with parent initials are due: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Calibri"/>
              </a:rPr>
              <a:t>January 10, 2011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itials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0" y="2666880"/>
            <a:ext cx="304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as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have a budget of $25.00 for a class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pare a shopping list that is within the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the prices in a newspaper ad or local grocery 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1:20:57Z</dcterms:created>
  <dc:creator> </dc:creator>
  <dc:description/>
  <dc:language>en-US</dc:language>
  <cp:lastModifiedBy> </cp:lastModifiedBy>
  <cp:lastPrinted>2009-12-03T11:38:05Z</cp:lastPrinted>
  <dcterms:modified xsi:type="dcterms:W3CDTF">2010-12-20T23:03:16Z</dcterms:modified>
  <cp:revision>29</cp:revision>
  <dc:subject/>
  <dc:title>Slide 1</dc:title>
</cp:coreProperties>
</file>